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6D6-9A06-49C7-9289-48AFC78E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D51-6026-4586-9B9E-35806F2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A878A-B7E7-4D38-99B8-6E937E1F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7110D-49AA-4F42-90AC-A82F6C97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D5F65-E4BD-49D5-B733-8F21E35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6658-E761-4613-B2D8-A91A89A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73FD-DCB1-4C7A-8DEE-73B439E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C9CB-4292-4A3D-B722-235C01B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20A23-1935-4DC7-8AF0-4AABA5E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B6886-09C5-4664-B626-4BC39B98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0E70-1113-436F-A813-3199D300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DD6FA-974F-4C50-8EF7-A90E04EC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914-67DB-4404-B792-CC19D3A6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4718B-C229-47BE-99FD-DD096047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FF5FD-9A50-41D0-BF9A-8808BADA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30934-BCF6-49E0-8C08-A04F7A5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FEE73-C180-43E4-A074-4D0EDEAB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49EEF-C64E-4445-8CEA-49795D4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8236-0D25-4796-8CB9-A1EFC762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36CF2-D983-4DFB-B3BE-2726ADF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6AD0-0CC8-46BB-BD21-7D7BF88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0AD23-6C76-48BD-99D7-3D1FF45D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44D8C-6333-4B88-8C60-0FA76684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1D4-9FC9-4E17-AD6E-653A799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E7D92-937D-41BD-B4D4-8308A7D4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1698B-5BF3-45E6-8DBC-BF853A46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5454-8AA9-47F2-B21A-B063262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42CA-12C7-4459-AC25-5F55366D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E65B-D1D3-48A3-B28B-C02F5C7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3C4B4-134E-4AD1-A93F-8B5F86C2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B3557-4EF3-4662-974B-1D4E23D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B9EC6-14EE-4B91-8B74-D2D26FD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61ECB-F399-4D6A-92B9-E6CA2A2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CBCB5-206C-4ACF-9329-C65E123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AAB1-FC02-4279-9164-0FEDD024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DC612-73CF-4688-B6D1-9DB1A90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0659-D694-4011-A982-4417429F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2A6FC-801C-494C-9A28-73CCE63F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DCDAB-8590-42D2-9119-4FC4BF98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9E6CF-C13E-4C55-B25C-2420890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89144-DB14-4888-A922-DEBEE54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7CF3-6DB0-43A1-9E02-49EC346E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3CC19-9195-49A0-8715-34A35681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AB125-42A0-4BF1-A4DE-77FC96A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90B3-BEF3-452E-B9C8-33AEDE5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77D4-0446-478F-A028-FC61AFA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5C1BD-CA3B-456B-969E-4956F1A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CD0C5-983C-41E8-ABC9-5848C8A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64CDB-32F3-4F6E-A891-3D8863B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6CA9D-1813-4BEE-BC3B-8A1A45CE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4BFFA-FF72-4788-8226-587DBCB8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433A4-7210-40BB-B128-5D813869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E8AC6-A46E-49EF-A116-582AF94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184E7-21F1-4A8B-827B-2A76179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C222F-10B2-4DE0-80CB-926E4151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2FFD9-77A1-4643-B189-AC6F9ED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B7CA-8476-4D28-B3D3-752A2F51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C98B5-FF5D-4348-B4F5-166176A4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CD236-F7C8-43A2-9614-7AA058E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91A07-7472-4A25-B82A-41D9A8DC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2C3CF-A45E-4042-9CF0-9394D63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700A4-A4F9-4F62-8EAB-0F160E6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CC5DD-C39F-4A1A-A73A-59DD884F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4C58B-5D71-4953-B044-32B0AD12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318DE-1A49-4D7F-A2D7-E9BB1E8B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6092D-BBB7-4537-8F05-8C08CDC6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855BD-EBDE-40EA-B879-9B581BB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F5D-134E-4BAB-B5F8-D6993CEB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307AF-9D51-4391-841A-18CE846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87724-56BF-4527-86C7-A6BF92C6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45065-2586-4B42-B851-460F420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E7666-E788-4F12-A8CA-B33B855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071B8-AD6A-480F-90DF-50CA12D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C1321-5473-46FF-804B-BDAA972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0A00A-5506-4698-82B5-90545556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CC78D1-C491-44DA-8A63-93846E0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5534C-5ADF-41DF-84B4-8F0877F8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BA1EA-BB85-438B-8B54-DF23FE2B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1B8-11ED-47C4-86E7-DA3B33F7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14DE6-234F-40A2-89FF-5F74CA1F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A75DA-5FB6-492F-A984-67690B5F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994BE-25BE-4115-83C7-0A105700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D0F0F-A9F5-4B69-9B5E-EC1B375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61A29-2546-4224-831F-60E4115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801A5-3A04-41CB-B64A-995E5986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BD657-DAD3-4D86-8301-1EFBDB1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750EA-AEAC-4169-895E-4FCC132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A4306-8D00-48DF-AF8A-9E49D6F6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44252-7221-430E-9E83-9EC06F05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141B-6CFF-4814-9872-E4725C9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1CE0D-4900-44CF-9C6B-EC92AEA3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87FB9-7986-48A2-9F9C-9B30341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0D33F-3D69-4ED5-9E1A-4E472FA0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0579D-1A93-419F-8608-1BEEE325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41C9E-7876-4C34-A723-F054196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84243-1A85-468A-A49F-954EFAB5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CB805-A4B0-4293-B787-2F48511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32B68B-D32B-4967-B4B9-8925B2B7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5A622-F95D-4045-B121-4A0BE03D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4626D-61F0-48BB-A68F-A146220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942-28E6-491A-AFEF-73B8099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1B439-2312-4DC1-B12F-B74E28D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DF58C-F11A-4815-A63D-E6BB5E36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D2FAE-9680-4B7C-A663-DD0C0056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EE3E5-E8BC-4673-A5BF-B931C31A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6AA8B-82E6-4341-B9B6-376E824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301D8-7A5B-4AD7-BFA8-2694C9E6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E60E6-88A8-4613-BB31-BC6B7BB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6D26D-642A-4826-8BA7-8C4668AD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608E8-09F4-4CC4-B31A-5E39D237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BD893-6195-4AA7-AE38-80B3CF8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020-792E-4E64-89AF-7C20F4D9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9E74-C4FA-458C-872A-C3FD96D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AAD8E-B867-44DC-96AB-A14072B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65F95-5386-4A95-A0A9-AC38E0A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12D69-0CA7-434D-9AF2-93C6BFB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EF42A-A5F7-4DE3-B018-108C13DF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95ADB-13CB-448B-BC05-32FAE0CA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AF0806-BFCA-415F-A281-44DF11CB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F14F6-CBB7-4660-AFF6-8B3406A2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D0C91-75F0-4E87-BC2A-A3CA8959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5A680-2741-4DC2-B278-FCFA3B1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EABC7-6BB6-4D17-B2FA-733B79ED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D3B7-FCB9-4C4B-893D-312DA10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79EBC-9E51-41D8-A425-08AC061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E19728-4F57-4BED-B792-26A18F5E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BCE9C-2826-4CCA-A572-430E252E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E4B17-009F-498C-B730-E7EF58B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83037-2452-4123-B500-63969AB1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E97369-2192-48E4-B8C0-F791DFD9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E6F8B-2A5C-49D8-826C-623C8834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44AB3-DEA4-4A48-99EB-0EC4AC0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8659E-0957-4C9B-BA85-9DC7424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1C67A-E28E-41E7-93E7-D8198AA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425E-C3DC-471D-BB40-E7F4A39D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099AA-8BB0-4C95-B99E-F2E2C24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4999C-0B02-42C5-9744-F32179D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01D92-26C2-4E55-826E-2308AA7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47016-BD60-45C5-9D7B-B3FBDC20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E3B53-2371-4627-8A9B-59053D0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D226E9-DCC1-494C-8EA1-5A838EC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433EF-4C8B-4857-9D71-A9E9FFE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3BF63-709F-4BF9-9584-5BE7810E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9744A-5194-4AC4-AA9A-26AAE33E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8BB42-175B-4D64-A65D-68A9E5AE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1F7-C079-41C3-883D-1D048587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0960F-145C-4E35-BE9F-15F3EFD3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01003-CE34-446E-A950-4F52785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086ACB-4D0B-4B62-84BA-8474DC2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51FAA-7A85-4E48-A25A-A072DA79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D6CAC-535C-4904-9E35-5AF6740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7934D-A37C-4737-94C2-BBEC44A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26635-B801-4D9B-9C1C-154DEFD2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CA2EC-0ED6-414E-9913-27EF746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BBEE9-3FCB-440D-9FCB-03C01981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97E53-8CE0-45F7-891A-697DE35D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7BF9-B1EC-4F5C-95CD-8A13B61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9CD38-8A80-4B0D-83A7-A838F149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8300F-8F4F-41B8-B80F-6DD7DDC8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28C721-672E-495A-8F67-12C0C6B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68EFA-3476-4AC0-802E-910366C0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54290-AE96-4C33-BE2B-0EC1C12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344BC0-C3CD-43AE-92DF-15689C5B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D85F7-3AC6-46C4-8248-F057C7B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52F94E-798C-484A-BE5E-CD019D3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58876-CCAE-4FF5-9B69-5B0F0B5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D3C18-7635-4AFD-9AB4-5B954C5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CE8D-4654-4353-A89C-EF8E3B24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614EC-AAFD-4A7A-AB01-5FD65106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485A2-F1DB-4374-B29A-18787A00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438AE-834A-446A-97D3-DBD0098C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5BC4-DC36-4D24-8ADE-0E12850C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A118-D88C-433A-9BDC-A0E3A1E0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7533-FF15-4C3D-B637-1B3C8140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D732-6C61-4150-A8D3-50B2818D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532-C3D5-42AA-8CCD-88CBD85B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6427-9A2B-4697-91DD-8353D9F5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D6CF-1E78-4855-A468-30D798F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C232-9704-43C0-BC7D-9DA1562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102F0-DC8C-4D51-BF0E-2EB5C259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3C04-48B2-4414-91B0-3B60933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1759-9F77-4BC1-A2DF-CE137C3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8EB3-A011-467E-A90E-56795D88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8CCE-E49A-4C7E-9DB8-18FAB28A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037D-B43F-45FA-B1B0-C3FAF01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799B-F737-458B-BBEE-3FCC67F5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3A9-FDA7-4625-BFAA-056F3B9D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BF57-A815-4BC0-B296-DF34CD70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A786-3925-4CC7-B222-9B167EF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49C9-2351-4C89-9EC3-04EC8E4A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3C70-DF87-4095-A404-EE03CD9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DCAB5-A89F-4651-9162-42CB80CE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DE8B-521E-42FE-9C0D-6CD67AF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429B-A1CA-41CE-820F-31E28ED8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4A4B-9D13-42CA-BF9B-FCC8B3AD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03D49-859F-49E4-96C3-0AE5024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901D9-5CB1-4B50-8C2A-BEDC71DB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286-77F8-49A8-9500-429A3B51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832F-F02D-4AF0-A8B1-4B27CCFF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FEBE-8A79-40C8-8265-C4563084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9A821-7DD7-492E-AC70-00CB1F6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6E29-C827-4B8B-A7D6-F8F628D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0DB0-A9AD-4C2D-8C50-E01101C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5D8D-B7E8-47A1-BFCE-577F839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4FE0-580C-466D-A78E-C0AA562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06ED-30E5-4419-85BC-579AFC0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72AE-9B2A-401D-BE52-6EA2CC8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7898-DD6D-491E-8BCE-2898BCFC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2EE-1076-493C-BCCF-5A255E2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E575-D174-47A3-8610-35961C02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52E7-96FD-4405-807E-93FCD5D9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3893-A041-476F-A6E7-C922E31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EE88-BFA5-43D3-B4D2-1699A884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A948-52FA-4541-A7A5-EA24DC9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607D3-1AF6-4C6E-8C02-41AD807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2922-FBE2-43C2-9B8A-0E796D5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A90F-22F2-4C31-BEBA-757F11CC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9C5D-F843-477C-A302-BFF0CCD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6C28-0951-49E3-BC22-739D624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2D0-B65B-4D10-9799-2135F46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40F2-C3C6-4D84-AB6B-779CE66D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3B2D-4E89-4CB8-9A71-54DBD36D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9E84-88BF-4A23-B869-D85D845D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860D-DEBA-4D35-83F7-FF798F9F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175F-F83A-462C-9724-0FDC283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FC9A-9C05-4DED-9DAC-B03E9E9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79E21-9DB2-464F-A1F8-265D052B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C20B9-B222-42C9-A11F-6B9ACBA0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5BEAB-E91D-47F2-89E1-26EA03DA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35C3-4088-4991-ACB8-F60ADC7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5B9-CA3A-41C0-B7F6-6AFAA92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C3FF-9128-439F-B5C1-4616090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24312-4810-4805-B4B7-6B3A63E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116C6-E5F1-49B5-A799-331B21D3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BECB-FDC9-40D0-9461-326B73F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A58F-4677-4E34-9278-5FD10B5A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A2D3E-F9F0-461B-A17D-3840D18B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2F62A-D3D9-498F-8F09-8F8233D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BE7D-1512-41B9-9278-11DBF6C5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D4BD-4F47-4759-925D-E02D66E9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62F1E-489A-4D44-BB57-CBA965F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4BF-1C96-4CD6-9E4F-5107164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FA754-C635-4EBF-B378-6B4DB68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AA47-EFB9-457A-964A-69F3D154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CCC5-C09A-413A-B759-7A0292E1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CB67-64F7-420E-ACD7-77A1050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3266-08BA-4145-8DD8-7FB96FAF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3E835-8C42-4099-8CCA-9C6D154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B2903-4732-4896-BAC5-B48159C0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4AE0D-B4A9-48A3-BBB6-16F474CE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8582A-A8F4-45DE-AFEA-D73F632A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E7479-3B35-44F4-877A-433EE57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B28-6780-4629-B3AC-C8A0395F38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3AD-F035-49EB-88C6-B47ACBDA4F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FE43-3BB2-49AB-BC3C-7892D1BC5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0037-8CE9-4C15-AB91-34A0400AC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A40-A535-4085-AD66-B797BF8455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DD9F-0EEB-4DDF-840A-E82C31A54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9411-32B0-48F3-A7E2-77A42DF45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7325-6C57-4374-A670-CDB904E1F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7AF1-45AA-4203-9055-06E97F6DB8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9F6-FE3C-46CE-A968-8E5018DC7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ABF-782F-4544-B907-3F3D703B52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67C-3595-44C8-B930-27D7330576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441A-1F83-48FE-8757-6B83F49917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714-CAFD-45CD-9E39-C0FA256D8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A6DC-E0F2-400C-BA14-7F1B7C22C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F2B-EF39-4EA5-BB0D-7D9D92FF1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036D-1A73-4CD6-B048-E748246C0C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72CD-76BD-449B-B2CD-EB873902F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38B1-FA56-460C-B2F0-7486344BC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39A-F006-4A31-9F14-3AE6248B91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98B-2AB1-47E7-834C-A6AFB7571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675C-7C57-47F8-9539-49F0DD2C8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1ADC-637A-4600-9EEA-7EA8F3F76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0C76-0BF2-46D7-856E-9235C55F32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725-C2FB-430F-B79E-C20FBFF32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826-2DEC-400C-895C-6084E19E0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F1C-B3EE-47ED-996F-16B1D2A7B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22F-BE08-446D-8D24-A68EB1842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9EF-B49B-4626-8F14-101436E7B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1AFF-BEFF-41F7-B0E1-97353123B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BB4A-04B7-4CB9-AB90-DE5DEDB80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1F0C-5319-4E03-8B5C-95A0F69D2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6AA-2853-454B-A000-9D5FD95F8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AAF8-BA22-4097-8266-0AC7BA71C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0170-8453-4923-B571-5BFD12495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5F8-0B53-4BA2-A3C1-166E59774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2B7-6EB7-4C48-B2AC-3E796EC5D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39E-5337-41D0-B4E9-C3088D3EAA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57C0-9858-4AB4-AA52-C2D166703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1CCF-F1D7-4C1B-9E91-35C51A5F0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57480" y="3086280"/>
            <a:ext cx="302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1176480"/>
            <a:ext cx="8496000" cy="4505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700360" y="340344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80000" y="341460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03640" y="393372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651640" y="285264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651640" y="341460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732720" y="285264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732720" y="342432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161040" y="3943440"/>
            <a:ext cx="720720" cy="25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835280" y="4923000"/>
            <a:ext cx="504720" cy="255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835280" y="5229360"/>
            <a:ext cx="504720" cy="255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933720" y="4897440"/>
            <a:ext cx="50508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924360" y="5229360"/>
            <a:ext cx="504720" cy="255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046920" y="4897440"/>
            <a:ext cx="504720" cy="25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066000" y="5229360"/>
            <a:ext cx="504720" cy="2556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8172360" y="4913280"/>
            <a:ext cx="505080" cy="2556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163000" y="5229360"/>
            <a:ext cx="50472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9410" descr=""/>
          <p:cNvPicPr/>
          <p:nvPr/>
        </p:nvPicPr>
        <p:blipFill>
          <a:blip r:embed="rId1"/>
          <a:stretch/>
        </p:blipFill>
        <p:spPr>
          <a:xfrm>
            <a:off x="181080" y="2424240"/>
            <a:ext cx="8781840" cy="2009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2124000" y="3978360"/>
            <a:ext cx="64764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648000" cy="320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148360" y="4005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6084720" y="4005360"/>
            <a:ext cx="648000" cy="320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7164360" y="4005360"/>
            <a:ext cx="647640" cy="320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101080" y="4005360"/>
            <a:ext cx="64764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162000" y="723960"/>
            <a:ext cx="8820000" cy="5410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00000" y="2527200"/>
            <a:ext cx="1008000" cy="320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771640" y="2546280"/>
            <a:ext cx="1008360" cy="3207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643280" y="2546280"/>
            <a:ext cx="1008360" cy="320760"/>
          </a:xfrm>
          <a:prstGeom prst="rect">
            <a:avLst/>
          </a:prstGeom>
          <a:ln w="0">
            <a:noFill/>
          </a:ln>
        </p:spPr>
      </p:pic>
      <p:grpSp>
        <p:nvGrpSpPr>
          <p:cNvPr id="951" name="组合 58380"/>
          <p:cNvGrpSpPr/>
          <p:nvPr/>
        </p:nvGrpSpPr>
        <p:grpSpPr>
          <a:xfrm>
            <a:off x="6289560" y="1657440"/>
            <a:ext cx="1090800" cy="1915920"/>
            <a:chOff x="6289560" y="1657440"/>
            <a:chExt cx="1090800" cy="1915920"/>
          </a:xfrm>
        </p:grpSpPr>
        <p:pic>
          <p:nvPicPr>
            <p:cNvPr id="952" name="图片 58377" descr=""/>
            <p:cNvPicPr/>
            <p:nvPr/>
          </p:nvPicPr>
          <p:blipFill>
            <a:blip r:embed="rId5"/>
            <a:stretch/>
          </p:blipFill>
          <p:spPr>
            <a:xfrm>
              <a:off x="6289560" y="1932120"/>
              <a:ext cx="92412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Picture 1" descr=""/>
            <p:cNvPicPr/>
            <p:nvPr/>
          </p:nvPicPr>
          <p:blipFill>
            <a:blip r:embed="rId6"/>
            <a:stretch/>
          </p:blipFill>
          <p:spPr>
            <a:xfrm>
              <a:off x="6372360" y="1657440"/>
              <a:ext cx="1008000" cy="3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7"/>
            <a:stretch/>
          </p:blipFill>
          <p:spPr>
            <a:xfrm>
              <a:off x="6300720" y="2421000"/>
              <a:ext cx="1008000" cy="115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468360" y="4311720"/>
            <a:ext cx="2735280" cy="3207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395280" y="4662360"/>
            <a:ext cx="2735280" cy="3207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324000" y="4970520"/>
            <a:ext cx="5400360" cy="3207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324000" y="5319720"/>
            <a:ext cx="5400360" cy="3207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8459640" y="299736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8459640" y="336708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4"/>
          <a:stretch/>
        </p:blipFill>
        <p:spPr>
          <a:xfrm>
            <a:off x="8551800" y="378936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5"/>
          <a:stretch/>
        </p:blipFill>
        <p:spPr>
          <a:xfrm>
            <a:off x="8542440" y="4221000"/>
            <a:ext cx="431640" cy="255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6"/>
          <a:stretch/>
        </p:blipFill>
        <p:spPr>
          <a:xfrm>
            <a:off x="8532720" y="459108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7"/>
          <a:stretch/>
        </p:blipFill>
        <p:spPr>
          <a:xfrm>
            <a:off x="8532720" y="501336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8"/>
          <a:stretch/>
        </p:blipFill>
        <p:spPr>
          <a:xfrm>
            <a:off x="8459640" y="5402160"/>
            <a:ext cx="43200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9"/>
          <a:stretch/>
        </p:blipFill>
        <p:spPr>
          <a:xfrm>
            <a:off x="8459640" y="5791320"/>
            <a:ext cx="43200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0:57:5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